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9AE0-08CB-4B51-85F4-24D115F9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6C0B-33B6-4DD5-9A52-80CBAA0F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79556-84E5-408D-AD3A-7EE659DB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6EAF4-2A56-40E9-BE6C-2EB2E8A5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24182-B522-434C-8FDA-6609BC1F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E035A-78C0-4DE1-8A2F-81B48A1C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15A32-E751-4D05-8BDE-34BF2511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847C2-1F28-4D19-BF73-5DA934A2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195F6-52B4-4CEE-8205-31ADE9BE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69891-F198-415F-8E15-2DA33682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76751-CD37-47E0-8EC2-C6D81B04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86AE7-7495-463B-AD9F-5A388141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23E4-D92F-40C4-BE30-28AE0EB4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B5A55-338B-4D39-BFF3-80B1F823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AC516-AAA3-45B7-83C0-AEB185EE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2F032-1B00-4FC0-B280-91EDCC95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D7F10-FC78-4F82-8E21-6B9D0A7A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0D5BB-610E-48C9-80EA-674310BF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E89DB-2F95-43E7-8A08-1D4B7DDD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6AD9C-BE91-4050-A6B7-03F8179E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0A35E-8BAB-45B6-943E-DC0B3627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1B7DC-43F7-4D52-A139-92F2C946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29A7A-E81D-45AA-AD32-456BC8C3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581A-7CE4-4C74-B219-C6AC762D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635F2-8055-4964-9DD6-13AF56A6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D0596-1ACA-4032-B582-6C40C58B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DB52E-EA83-49AF-BD66-546461B9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1C557-4238-465C-B1A6-85D7E12C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C39D0-35D5-4032-B572-3B774B5F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0989E-2BDB-4EE5-86A5-FFAD7116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C37FD-A4BA-4A2E-87BB-8839865E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40B75-FE1A-4F8A-B6FB-3E5E98C7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8A8D2-02A9-42A9-98F2-3CC2DF48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A9733-F75B-4F59-B70A-8C33835D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E527-A946-458E-810D-2F075F2C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38153-FAF0-43AF-A6CA-216F137A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BC66B-9E9A-4C7C-8727-BD0246E6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723B5-C524-4C52-9B5C-6AC1531E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658C8-C5D3-45EA-A5E9-F6391E48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3E24C-A867-469D-817F-9E17909C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EBAD5-9654-463A-81E7-3AF8BE4F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F6A56-D4DF-4A33-9FAD-AFA8965B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0E81B-1142-4F90-B0C6-29FDC569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20F49-5D56-47BE-B1E9-FC64B2C0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17AE2-F682-4BBD-86FA-377CC653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F6EE-78B2-4F9C-AF0B-6670FAF9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57F3F-E89E-4B9A-B417-FEA3489B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446F0-B686-49CF-AE77-D9F3506C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1D189-6640-4EC5-BAC4-5CA43553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BB002-7355-48B9-9BB4-8CBD6D2D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7BF0B-18FA-4FB0-9C94-BEA93803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668D-09E5-4496-AF28-0613AE19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0BA3-F57E-484F-AF10-BEB8BDBF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8633-3D3D-474E-859F-C5CCD273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AC72-4878-4BB3-8D8B-352AFEC1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1FC3-2C6B-4A79-B074-21713B7E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7EB1-813D-4B13-BCF2-EF54B976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52B3-571B-44C1-94E8-39C6C8AD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B3C7-E1CD-4C95-90C1-459E21CC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A7B6-F8B7-4FB7-BC4B-5373038F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AC03-A312-4C70-A830-C546F478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1E0B-8341-44FB-8898-72959906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DC68C-1EBE-471E-9E99-AC39EA1D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F2EFD-619C-46D0-82F0-1A547D27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6F91E-E835-485A-A471-0F0D68B8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0C415-5449-4049-A565-047DE36B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D78E4-AA74-496E-9DC9-F1EA9C2B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4E6-8682-4832-AE89-B7676C16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1551C-B34F-4461-B1BD-D879DA7F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53D29-DF85-4B6D-9BDB-1950CBA8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F38E8-7000-48BE-9F71-B88BAF64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2F98F-17B7-4B8A-951F-EE538EE4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ABAD9-715D-4250-95A6-A361634D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141C1-910D-4634-ADE5-ACD86F87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0F673-1233-40AF-85E7-43B84892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5FB52-B651-4683-8644-8DBF9889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47E4A-652A-421E-9C88-084BADED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280E1-F024-486E-BC79-E11E37DF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212C-1B93-4E23-8EDF-DF2B36C3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C2141-036D-4455-871F-884D8634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C4847-C649-4F89-B52A-07A5525C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04254-FEBB-4E9D-BAA5-9B514F9A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CB4F6-C997-402D-BADF-9158F89E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E87D1-FFB1-471E-A9FB-2ECD864D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137F3-B3F4-4432-B6D3-0A4025CE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4A50F-E798-434D-8DD6-43C44F19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E7FEC-0BDF-4F21-8BD4-57A10BAB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C8B6B-8BA7-4C46-9C7D-0A89AEFD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83344-935C-4A4A-A054-E1824028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9525-6CB4-4B23-B476-42B0B12A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A00F7-DF53-46D3-9B9B-9F83E050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1D89E-A551-43F6-86E1-C2D956B7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E1E5D-CA73-47BC-8844-BA199AFA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BE74A-FE5F-4CFB-A536-7D2F094F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26F88-1DDD-4CC2-B8DC-C85AEDEF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8A332-DD1D-4E70-8AC8-D72C8D48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87A61-997E-4A48-B10B-A0FB91F4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78EA9-FEC8-4780-A25B-3335440A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72DC5-4C91-44FE-B757-865B530D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3E153-7C06-4FDC-96C9-102AD116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5E41-D822-49DD-BC73-022F430C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02A37-DE7F-4E20-A9CE-3829CCAF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05936-156B-4772-B5C1-47305EB2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28CB9-1FEF-4246-9AB0-300B2F74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30865-1DDA-4CD2-B221-34602192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5170C-C4A4-4563-AA0D-7570DCA2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B05EF-AAEB-4124-82FA-1EA71316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6D85D-6E7D-4B3C-8EB3-90764E65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A6FC5-1E24-486F-8764-A991824B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11EF6-A4E8-4BDA-8455-C1CC357E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79ECE-49FB-4E65-9953-75993F26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2732-6DCC-4B07-97D1-A8427809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814C6-2F60-4340-BD42-CE76B554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A93F2-7D05-44C8-8FEB-03B2BBC9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83574-A7C8-4B7C-9AC0-7B8CDD14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C80C6-8568-4328-913D-13F74C89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932C7-8574-48D3-AA7F-405AD8B9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8DA14-5995-4050-BE6B-633E1866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B734D-B87E-434D-850D-039BEA8B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04CFA-D824-4584-AED9-7A498677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070BA-A964-4778-BA34-D4FF1304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0A493-6832-4249-B99C-49ED6978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EEDF-0BBE-46A9-A0ED-75E4AC73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8A58D-DE7C-42FE-BC14-AB9D3486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58D3B-264D-492D-A436-DF1C0B4C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170D8-4A36-41E9-BBB3-0110BEB6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84DFC-6D85-4B5B-AD49-F76D2CB8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FD420-4F5C-4C9F-93AE-88639994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145F3-97A3-47B3-B5CF-ACF361DD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5A882-0130-4475-9B2A-EE0CC4F7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A9B98-CE04-474E-AB4A-43921FB1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2E9E8-7714-4429-8E91-D23BC690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5220A-A891-4D68-8EE4-6B4E2BED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A057-571B-474F-81B6-4B5E6DCF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6652B-C994-4BC3-B8F7-2DBA040F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8551B-8505-45EB-8FDA-A12F30F2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98C49-3608-4DC4-B94F-212908A3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DD86F-5436-4764-9881-2E0C3991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D5D8C-A3EB-476C-A143-95CECB35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FC48B-E4AE-4DA8-8622-48463B93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87B51-6072-4D17-BC65-2ABF2A71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B0904-3FBC-47C9-B60A-AD060D1B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51CFF-4E4B-4B91-A24B-8EA72ADF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98978-41D1-4317-A544-0C0C37EF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510F-44E4-4851-8E86-400CFA68A07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9EB5-BDCF-4638-871C-B8980C99038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1979-E58A-47CF-88A2-311618BB042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D5FB-E527-4688-852A-B05F3310D07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301D-75DA-476F-B0B9-9D55CCD6F8C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A089-9989-4ABA-94D7-CDF8A9A5321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959E-4C56-47E9-AACE-2B59707BAD5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EE6F-DF06-4404-917F-1D5D3C3C114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27DF-9548-4D4E-9CC2-E0EBAEDFB2E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B70C-F9DC-4271-83F3-932D93DA83F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8B27-596D-48D2-A6C1-FAEBFFF007B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A344-E2AA-426F-AB32-1AA695328BC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12 Chceme byť vždy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lízko teb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e byť vždy blízko teb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jvernejší Priateľ n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lásky k nám si prišiel z neb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našou biedou súcit má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tebou ísť, stále í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ť vždy v tvojej blízkosti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 pravý z teba má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raz  i  vo večn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i naše útočišt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nám hrozí nepria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hynúť nám nedáš ist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rahý náš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tebou ísť, stále í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ť vždy v tvojej blízkosti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 pravý z teba má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raz  i  vo večn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teba sa spolieha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nás nikdy nesklame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nde pomoc nehľadá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úžení vždy pomôcť vie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tebou ísť, stále í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ť vždy v tvojej blízkosti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 pravý z teba má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raz  i  vo večnosti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4:20:03Z</dcterms:modified>
  <cp:revision>16</cp:revision>
  <dc:subject/>
  <dc:title>Je veľký náš Pán, on slávy je Kráľ Nech do všetkých strán  spev vrúcnych znie chvál.</dc:title>
</cp:coreProperties>
</file>